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40A-3EA5-4727-A6E8-65B11422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5B0-FD41-4EB5-9A01-071E212C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609-9CE7-446E-9B03-EEC1016A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CA2-2291-480B-9E77-FEE73937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F89D1-2F16-40E0-AD70-02F81A66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80985-6B5E-4B19-9406-24456F03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AA134-6DE2-4E86-8210-97896E3A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F6F0D-E93A-42B8-AB04-13110698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FAE38-0690-4DE9-894B-E28BF660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75C38-4D0E-48AB-AAAC-1A463BCC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D1D9F-856E-4A46-AD3F-2302450D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D76-BAD0-409C-9930-DAFCFB53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E9DD2-C796-4658-8273-E72F811A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520D6-47D7-4654-A602-2F9FCFAC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B2421-5E5E-4995-A1F4-2C7A94DF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5E2DF-FA4A-4BCF-A84F-55387106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53681-B8F8-4581-8626-21903C35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2C94-0967-4C30-ACAE-05320B2E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D54E1-AEE8-4DCA-B098-8BBF5363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B9A36-D12A-4D30-8EFD-07C065CA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7716-7DBD-4F15-A680-5BBFB538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D419D-A196-4C59-B483-325DB057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753-15E3-41DB-8E08-5FA626A8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F07DC-8FA3-45D8-8B79-EAD81577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3E176-540E-465E-A814-7E673BF0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F565-F98A-48AC-A417-5E2A87FE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1497-7977-41CB-A2CD-C6C484E4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E069-4E34-47C4-ABFF-D3555FD8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C101-848C-447B-8862-846330DF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EC70-8CEF-41D2-87E9-FB9920A0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9D32C-72F8-4B59-8AC8-75617964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0DEC3-B419-44CB-9898-A6033F66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928E4-7166-488B-991D-3642DCAD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44B-B8F6-4D0A-9CA0-7C2A9AB3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67DD5-DA0B-4B1C-B3B1-B1E8D4F0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80738-578B-46B8-A70F-7D33BE1B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8843B-D037-4988-A28C-A2682AF0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90266-B172-491D-954C-53CE0672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D321E-FEA5-4F57-8A05-F4189BD5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967E7-3146-4560-A3DA-61CC5BE2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D833-E240-4225-8ACF-17E6EFEA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A2774-306A-46CD-96A8-82AAD712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CD9CE-C4E8-4F72-A2BE-5D21F1A8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C06-6937-49CC-885A-CD142A0A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4A1-91C6-4A44-8D4B-E711609F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F27-5443-4A3C-B280-4235567A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0F7-7E56-4355-B68B-6B3572F7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BBD-6432-4B63-8EFE-6ACC8ADC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6E75-8346-4548-B132-9F9DE406C1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D5BB-60AD-4ED9-B069-F3FF937CAF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8BEC-0712-4F4A-94F8-D5B81E685D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91AC-28C9-406E-84ED-2A10F39EBB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836640"/>
            <a:ext cx="78487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зент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 уроку внеклассного чт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литературе в 6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бота выполнена     Селивановой Галиной Геннадьев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чителем  русского языка и литературы    Яренской  муниципальной средней    общеобразовательной шко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Ленского района     Архангельской  област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2011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«Умница – головка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489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 повесть рассказывает о приключениях маленькой  девоч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го рано потеряла родителей. Пережив горечь потерь, пройдя через нелегкие испытания, Марго находит друзей и настав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войны она становится сестрой милосердия. Это бесстрашная героиня, которую любят, которой гордятся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940360" y="1484280"/>
            <a:ext cx="2448000" cy="2254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87" name=""/>
          <p:cNvSpPr/>
          <p:nvPr/>
        </p:nvSpPr>
        <p:spPr>
          <a:xfrm flipH="1" flipV="1">
            <a:off x="467640" y="2061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240000" cy="21780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268360" cy="302544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  <p:sp>
        <p:nvSpPr>
          <p:cNvPr id="290" name=""/>
          <p:cNvSpPr txBox="1"/>
          <p:nvPr/>
        </p:nvSpPr>
        <p:spPr>
          <a:xfrm>
            <a:off x="1476360" y="476280"/>
            <a:ext cx="7272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cc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ибирочка"</a:t>
            </a:r>
            <a:endParaRPr b="0" i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cc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/>
          <p:nvPr/>
        </p:nvSpPr>
        <p:spPr>
          <a:xfrm>
            <a:off x="3132000" y="1341360"/>
            <a:ext cx="5688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невероятных и полных драматизма историях предстоит участвовать Сибирочке – юной княжне и героине  приключенческой повести Лидии Чарс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збежав смертельной опасности, оставшись без родителей , девочка оказывается в логове разбойников. Вот  тут-то  и разворачиваются захватывающие приключени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795760" cy="32385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324000" y="189000"/>
            <a:ext cx="4392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ного суровых испытаний пережила Сибирочка у разбойников.   Страшно и одиноко ей было без друзей и от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Горькую несправедливость, обиды и унижения переживала девочка в эти дни. Жизнь была жестока   к  ней.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Только знакомство с Андрюшей скрасило её жиз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3737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Вдвоем   они   убегают от  жестокого  главаря Зуба  и его разбойников  и     торопятся в Петербу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800"/>
                            </p:stCondLst>
                            <p:childTnLst>
                              <p:par>
                                <p:cTn id="3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8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800"/>
                            </p:stCondLst>
                            <p:childTnLst>
                              <p:par>
                                <p:cTn id="3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3800"/>
                            </p:stCondLst>
                            <p:childTnLst>
                              <p:par>
                                <p:cTn id="3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animClr clrSpc="rgb">
                                      <p:cBhvr>
                                        <p:cTn id="379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380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430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00" y="1268280"/>
            <a:ext cx="3687480" cy="4392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296" name=""/>
          <p:cNvSpPr/>
          <p:nvPr/>
        </p:nvSpPr>
        <p:spPr>
          <a:xfrm flipH="1">
            <a:off x="5887440" y="981000"/>
            <a:ext cx="257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0360" y="404640"/>
            <a:ext cx="4787640" cy="55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казавшись в цирке,Сибирочка становится дрессировщицей львов. Автор пишет: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«Страшно было видеть эту детскую головку, бес-печно распевающую в огромной пасти великана-льва».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вочку все полюбили: и зрители, и работники цирка.Здесь они с Андрюшей нашли настоящих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той книгой Л .Чарская учит, что друзья на то и существуют, чтобы  в трудные минуты помогать друг дру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119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1440"/>
                            </p:stCondLst>
                            <p:childTnLst>
                              <p:par>
                                <p:cTn id="4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3440"/>
                            </p:stCondLst>
                            <p:childTnLst>
                              <p:par>
                                <p:cTn id="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 rot="195600">
            <a:off x="6372000" y="1196640"/>
            <a:ext cx="2259000" cy="2954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99" name=""/>
          <p:cNvSpPr/>
          <p:nvPr/>
        </p:nvSpPr>
        <p:spPr>
          <a:xfrm>
            <a:off x="1116000" y="260280"/>
            <a:ext cx="741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«Записки  гимназист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907920"/>
            <a:ext cx="540036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Отношение к бедным людям -главное мерило человеческого достоинства 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Об  этом  повест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аписки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гимназистк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Леночка осталась без родителей, ей пришлось поехать в незнакомый Петербург, жить у родственников , которые не любили девочку. В гимназии Лена переживала оскорбления, насмешки , издевательства ,с ней никто не друж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6156360"/>
            <a:ext cx="856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 Black"/>
              </a:rPr>
              <a:t>Умение терпеть несправедливость , вера в то, что зло потерпит поражение, –вот ценные качества  геро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9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900"/>
                            </p:stCondLst>
                            <p:childTnLst>
                              <p:par>
                                <p:cTn id="4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900"/>
                            </p:stCondLst>
                            <p:childTnLst>
                              <p:par>
                                <p:cTn id="4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9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19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790720" cy="3600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4500720" y="189000"/>
            <a:ext cx="43210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Именно так и складывается судьба бедной гимназистки.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Сначала на её сторону переходит маленький Толик, потом исправ-ляется горбунья Жю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 гимназии Леночку любят учителя за её старание в учебе, аккуратность и вежливость. О ней с благодарностью отзываются графиня Анна, тетя Нелли, дядя ...Вскоре девочку полюбили не только в семье Икониных, но и в гимназии.  Даже самый злостный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раг, Жюли, сказала о Лене : «  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Глядя на тебя, мы учимся хорошему. Ты нужна на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414972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Мы должны быть внимательнее друг к дру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59500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Этой повестью Л Чарская учит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маленьких читателей, что такие добрые, милосердные люди ,как Леночка, нам  нужны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0" t="13120" r="401" b="0"/>
          <a:stretch/>
        </p:blipFill>
        <p:spPr>
          <a:xfrm>
            <a:off x="468360" y="1341360"/>
            <a:ext cx="2087640" cy="2809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i="1" lang="en-US" sz="2400" spc="-1" strike="noStrike">
                <a:solidFill>
                  <a:srgbClr val="000066"/>
                </a:solidFill>
                <a:latin typeface="Arial Black"/>
              </a:rPr>
              <a:t>Смелая жизнь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»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- историческая повесть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о судьбе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 легендарной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кавалерист -  девицы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Надежды Дуровой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876360" y="119700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1052640"/>
            <a:ext cx="60498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С детства воспитанная по – мальчишески, Надежда в годы Отечественной войны  1812 года прославила свое имя целым рядом подви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Надежду отличают бесстрашие, дисциплинированность, чувство товари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В Бородинском сражении она участвовала наравне со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Эта повесть – урок любви к родной истории, к Ро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448000" cy="20365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sp>
        <p:nvSpPr>
          <p:cNvPr id="311" name=""/>
          <p:cNvSpPr/>
          <p:nvPr/>
        </p:nvSpPr>
        <p:spPr>
          <a:xfrm>
            <a:off x="468360" y="472428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стория жизни Надежды Дуровой послужила основой для создания кинофильма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Гусарская балла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60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600"/>
                            </p:stCondLst>
                            <p:childTnLst>
                              <p:par>
                                <p:cTn id="5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600"/>
                            </p:stCondLst>
                            <p:childTnLst>
                              <p:par>
                                <p:cTn id="5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60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44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4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9400"/>
                            </p:stCondLst>
                            <p:childTnLst>
                              <p:par>
                                <p:cTn id="5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19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184480" cy="295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468360" y="260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 Black"/>
              </a:rPr>
              <a:t>О  жизни   Лидии    Чарс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71640" y="1341360"/>
            <a:ext cx="586908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ё сын Юрий  служил в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асной Армии и погиб в Гражданскую вой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1924 году она была уволена из  театра. Чарская очень нуждалась в заработке. Но несколько лет не могла пис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ла её были очень плохи. Мальчики и девочки жалели  писательницу, приходили к ней, помогали  убирать комнату, мыть полы и рассказывали  о своих любимых героях её книг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907920"/>
            <a:ext cx="89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О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жизни писательницы после революции известно очень   м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8360" y="4937040"/>
            <a:ext cx="8496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дия Чарская прожила не так много -  всего 6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ледние двадцать лет жизни обернулись   для неё  трагед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были годы забвения: целые поколения читателей не слышали её имени, не читали её кни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4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8760"/>
                            </p:stCondLst>
                            <p:childTnLst>
                              <p:par>
                                <p:cTn id="5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760"/>
                            </p:stCondLst>
                            <p:childTnLst>
                              <p:par>
                                <p:cTn id="5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276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48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48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476360" y="-243000"/>
            <a:ext cx="48261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аследие      Чарской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 rot="388800">
            <a:off x="7164360" y="475920"/>
            <a:ext cx="1566720" cy="22320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 rot="21264600">
            <a:off x="395280" y="907920"/>
            <a:ext cx="1406520" cy="201456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1546200" cy="191628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395280" y="357336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е восьмидесяти  книг написала Л Чарская. В её сказках и  повес-тях  всегда счастливый конец.Её герои, пройдя путь испытаний, горя и разочарований, побежд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5003640" y="907920"/>
            <a:ext cx="1575000" cy="1944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sp>
        <p:nvSpPr>
          <p:cNvPr id="323" name=""/>
          <p:cNvSpPr/>
          <p:nvPr/>
        </p:nvSpPr>
        <p:spPr>
          <a:xfrm>
            <a:off x="250920" y="4581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е победила только сама писательница. Она умерла в бедности и одиночестве и похоронена неизвестно кем на Смоленском кладбище в Ленингра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57340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чевидцы утверждают, что за просторной могилой Лидии Чарской кто-то постоянно ухаживает. Здесь часто видят живые цветы, а ведь после смерти писательницы прощло уже много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1476360" y="1844640"/>
            <a:ext cx="1174680" cy="16542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6156360" y="1844640"/>
            <a:ext cx="1314360" cy="1725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6560"/>
                            </p:stCondLst>
                            <p:childTnLst>
                              <p:par>
                                <p:cTn id="6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560"/>
                            </p:stCondLst>
                            <p:childTnLst>
                              <p:par>
                                <p:cTn id="6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560"/>
                            </p:stCondLst>
                            <p:childTnLst>
                              <p:par>
                                <p:cTn id="6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560"/>
                            </p:stCondLst>
                            <p:childTnLst>
                              <p:par>
                                <p:cTn id="6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186920" y="2924280"/>
            <a:ext cx="640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 rot="450600">
            <a:off x="542880" y="-860400"/>
            <a:ext cx="8007480" cy="29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дия    Алексеевна  Чарская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 rot="20908800">
            <a:off x="395280" y="21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Личност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54920" y="3860640"/>
            <a:ext cx="50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7200" spc="-1" strike="noStrike">
                <a:solidFill>
                  <a:srgbClr val="990099"/>
                </a:solidFill>
                <a:latin typeface="Times New Roman"/>
              </a:rPr>
              <a:t>Судьб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15772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Творчеств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4360" y="5589720"/>
            <a:ext cx="1152360" cy="96840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299200" y="2060640"/>
            <a:ext cx="3208320" cy="3384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1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69360"/>
            <a:ext cx="821844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 Её почитают гением прошлого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43640" y="1773360"/>
            <a:ext cx="1903320" cy="28810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98764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1484280"/>
            <a:ext cx="547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Её  книги читали при свече, керосинке, при огне буржуйки, при свете ярких ламп, даже на скамейке под липами. Над ее книгами счастливо забывались девочки и девушки,  героев ее повестей навсегда полюбили мальчишки, познающие жизнь. Над ними плакали русские изгнан-ники, увозившие книги своего детства за границу. Л Чарская  часто получала письма от детей с выражением восторга и любви, с просьбами достать  продолжение  любимой книги .«Как хорошо сознавать, что ты можешь делать добро людям. « Это лучшая  радость королей , это счастье выпало мне.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580360" cy="3146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H="1">
            <a:off x="399240" y="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410560" y="835920"/>
            <a:ext cx="631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-819000"/>
            <a:ext cx="864072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  виражах   судьб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9800" y="5877000"/>
            <a:ext cx="79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-1045440" y="5305320"/>
            <a:ext cx="109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дия Чарская окончила Павловский  женский институ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етербурге, многие героини её романов тоже уча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этом институте. Здесь они дружат, влюбляю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орятся и очень скучают без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84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6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32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476280"/>
            <a:ext cx="1881000" cy="3600360"/>
          </a:xfrm>
          <a:prstGeom prst="rect">
            <a:avLst/>
          </a:prstGeom>
          <a:ln w="76320">
            <a:solidFill>
              <a:srgbClr val="bb5f03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611280" y="1125360"/>
            <a:ext cx="45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2879640" cy="2203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 rot="21019800">
            <a:off x="2700000" y="-316080"/>
            <a:ext cx="5761080" cy="18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Александринке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25440" y="4005360"/>
            <a:ext cx="235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кончив институт, Чарская попала на сцену  петербургского  Александринского теа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4005360"/>
            <a:ext cx="619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чив театральные курсы, она стала профессиональной актрисой театра. Но знаменитой и   блистательной стать не мог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843280" y="55123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новата оказалась её страсть к литературному творчеству. Она писала стихи, сказки, повести.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 rot="20968200">
            <a:off x="539280" y="156960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603000">
            <a:off x="6227640" y="1341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2160720" cy="3095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826920" y="260280"/>
            <a:ext cx="6309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кл кавказских повесте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4292640"/>
            <a:ext cx="828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ти повести посвящены славному княжескому роду Джаваха, его юным представительницам. Смелая Нина, маленький Юлико, преданная Люда Влассовская, Бэлла – герои этих кни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самые невероятные истории попадают герои ,они учат нас смелости, честности и милосерд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3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49200" cy="2630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74" name=""/>
          <p:cNvSpPr txBox="1"/>
          <p:nvPr/>
        </p:nvSpPr>
        <p:spPr>
          <a:xfrm>
            <a:off x="900000" y="476280"/>
            <a:ext cx="71280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торая  Нина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484280"/>
            <a:ext cx="561636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нилой климат Петербурга ока-зался гибельным для Нины  Джава-хи. Девочка умер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ая памяти любимой подруги, Люда Влассовская приезжает на Кавказ в Гори.    Здесь она обретает названого отца , маленькую сестру Нину.   Так в честь Нины Джавахи назвали свою дочь Бэлла и Израэ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ы! Злой рок преследует семью Джаваха, и вскоре погибают в горах родители малы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ргий Джаваха и Люда становятся родителями  второй Н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95640" y="558972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Прочитайте повесть</a:t>
            </a:r>
            <a:r>
              <a:rPr b="1" i="1" lang="en-US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 Black"/>
              </a:rPr>
              <a:t>, и  вы узнаете о жизни второй Нины много интерес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3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романы девоче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яжна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жавах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рая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ин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писки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ститутк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С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бироч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 rot="940800">
            <a:off x="5363640" y="1700280"/>
            <a:ext cx="2665440" cy="4530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 книги мальчик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284360" y="1196640"/>
            <a:ext cx="468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С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мелая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жизнь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lang="ru-RU" sz="4400" spc="-1" strike="noStrike">
                <a:solidFill>
                  <a:srgbClr val="ff33cc"/>
                </a:solidFill>
                <a:latin typeface="Monotype Corsiva"/>
              </a:rPr>
              <a:t>Щ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елчок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К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няжна</a:t>
            </a:r>
            <a:r>
              <a:rPr b="1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Джавах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П</a:t>
            </a:r>
            <a:r>
              <a:rPr b="1" i="1" lang="ru-RU" sz="4400" spc="-1" strike="noStrike">
                <a:solidFill>
                  <a:srgbClr val="3366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ж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цесаревны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Р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ди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семь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0" t="12700" r="-2427" b="0"/>
          <a:stretch/>
        </p:blipFill>
        <p:spPr>
          <a:xfrm rot="21230400">
            <a:off x="1187280" y="1844640"/>
            <a:ext cx="2448000" cy="357516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667640" y="5775480"/>
            <a:ext cx="865080" cy="726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24:34Z</dcterms:created>
  <dc:creator>USER</dc:creator>
  <dc:description/>
  <dc:language>en-US</dc:language>
  <cp:lastModifiedBy>Billy</cp:lastModifiedBy>
  <dcterms:modified xsi:type="dcterms:W3CDTF">2012-02-23T18:34:14Z</dcterms:modified>
  <cp:revision>51</cp:revision>
  <dc:subject/>
  <dc:title>Лидия Чарская</dc:title>
</cp:coreProperties>
</file>